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C55-5B74-441D-8BFD-8EFAECF4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2F4-7C51-4818-BADF-92B6D1DF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4E4-0E57-4D76-8901-E3CF5DB7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A2D-9205-41E4-8FBC-AEBCE0E4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59C-F82C-40BE-9349-90819FFC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44E-9E9E-4D99-9BC8-46A46EFD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4737-D874-406E-9C45-9860CF04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DEF-36E2-4D10-A8C5-ECB1DDED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49D-C319-4DF7-B692-241ECA27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F85-44A7-4117-A97F-CCFFA19F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1E0-AB0E-4C0D-8477-F81CE2BF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467-53C8-4CFE-B328-7BC58F4A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CCE9-1D00-4DC9-96D5-01B25DB48D9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700360" y="2708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09-28T09:04:25Z</dcterms:modified>
  <cp:revision>802</cp:revision>
  <dc:subject/>
  <dc:title>Free PPT Backgrounds</dc:title>
</cp:coreProperties>
</file>